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5AE-9A71-4002-8652-D093DF86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DE2-EB4A-4825-AA08-657B9B9C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5D0-1124-49A7-93B4-CCFBADC6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68C-E784-403E-8D56-24DDCCC7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218-A6AF-4E93-9083-0EFB44E9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FCE-7FDB-4772-8104-51F8F053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D55-4F36-4336-99CC-981868F0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5EA-D4BF-44ED-B3F1-7472A4A0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4F2-D774-4B2D-AC22-824B0F33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B1C-65DB-4F73-8559-0811BF32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DBF-7999-408B-A359-4155EFF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D4C-CA97-4B7E-A689-81FD7CCD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B29D-26BB-4CCC-8FDE-2ECD2A745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6564" t="14584" r="28126" b="7294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01:46:39Z</dcterms:created>
  <dc:creator>Patrick J. Mooney</dc:creator>
  <dc:description/>
  <dc:language>en-US</dc:language>
  <cp:lastModifiedBy>Patrick J. Mooney</cp:lastModifiedBy>
  <dcterms:modified xsi:type="dcterms:W3CDTF">2012-01-19T01:48:07Z</dcterms:modified>
  <cp:revision>1</cp:revision>
  <dc:subject/>
  <dc:title>Slide 1</dc:title>
</cp:coreProperties>
</file>